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CD6-41BA-40D3-8A29-228C506D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A33E-2061-4BB0-AD0D-A6677ECF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14560" y="70020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FF99-A968-44BE-A18D-FABF0BD5D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7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F671-1A73-46BA-8563-31B7D0DB6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43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7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7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5A2C-06A8-4577-BB20-5B80B4C5E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43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43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7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7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7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407B-8766-4E21-864E-0854CCD20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B5D3-35EB-4372-BB2A-AFC96F9EE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0F46-A805-4E74-917D-F1F25B180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43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AE08-9957-4B31-9585-2E434290E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8705-AB1E-4C4F-B6AD-451625346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5760" y="88920"/>
            <a:ext cx="87868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4A7A-F129-44C2-A28B-211CCA573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43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7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2FB8-8727-4F93-9904-62E921C4F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43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7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15DE-A131-4964-B915-6B3087435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43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7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F4DC-8ABA-4D07-89A8-6493C06AB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ED5-2011-48AF-9324-9FC2F17B4AAA}" type="slidenum">
              <a:rPr b="0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095880" y="6116760"/>
            <a:ext cx="2286000" cy="58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2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520"/>
            <a:ext cx="914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0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05120"/>
            <a:ext cx="5638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ternative Financing Methods and Roles of Different Level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ional Surface Transportation Infrastructure Financing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ck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ef Economist, U.S. Dept. of 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ril 2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1004" b="1117"/>
          <a:stretch/>
        </p:blipFill>
        <p:spPr>
          <a:xfrm>
            <a:off x="5943600" y="0"/>
            <a:ext cx="32479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2000" y="228600"/>
            <a:ext cx="2200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0D96-DECE-4497-82A2-5C438BE098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ur Key Issues in Adopting a Financing Metho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or privat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public, what source and structure for charg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level of governmen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much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5000" t="0" r="26667" b="0"/>
          <a:stretch/>
        </p:blipFill>
        <p:spPr>
          <a:xfrm>
            <a:off x="7010280" y="990720"/>
            <a:ext cx="213372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A63A-C882-4C3E-871F-9573F9FF2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blic User Charg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3200" y="124308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el tax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at to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gestion char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ight-distance char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cellaneous taxes and fees, such 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e tax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fe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guzzler ta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724" t="0" r="10913" b="0"/>
          <a:stretch/>
        </p:blipFill>
        <p:spPr>
          <a:xfrm>
            <a:off x="0" y="990720"/>
            <a:ext cx="236232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DB9E-AB60-48DB-8287-17202F5014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blic Non-User Charg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perty tax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les tax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ome tax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F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user charges have grown nearly 80% since 1995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ter than user char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81680" y="1035000"/>
            <a:ext cx="23623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4B2C-CA2B-4BD8-80BE-0E85D14CC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ate Financ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12430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r char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vailability fe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-based availability f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hadow to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xable v. tax-exemp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2637000" cy="50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769F-1FE5-417D-B3ED-D41E006E4A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haracteristics of a Good Revenue Sour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ministrative simpl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force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ility to keep up with spending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rable incentiv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irness among us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accept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16520" y="1038240"/>
            <a:ext cx="3327480" cy="498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6769-2E0A-426B-BDDE-7F9E15B18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760" y="88920"/>
            <a:ext cx="8786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les of Different Levels of Governm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43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enditures should be at lowest practical level of gov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the level of government should be high enough to capture the benefits of the expenditu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ing incentives to under-sp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ight v. passen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 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er levels of govt. may lack fiscal capacity to meet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er levels may subsidize fiscally weak lower governmen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ally balance economic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verage for national safety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sues of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6D86-F625-4F74-9535-6D01D6383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6:57:05Z</dcterms:created>
  <dc:creator>todd.kohr</dc:creator>
  <dc:description/>
  <dc:language>en-US</dc:language>
  <cp:lastModifiedBy>robert.mariner</cp:lastModifiedBy>
  <dcterms:modified xsi:type="dcterms:W3CDTF">2007-04-24T20:54:07Z</dcterms:modified>
  <cp:revision>22</cp:revision>
  <dc:subject/>
  <dc:title>Benefits of Congestion Pricing Upon Fuel Econom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2534540</vt:r8>
  </property>
  <property fmtid="{D5CDD505-2E9C-101B-9397-08002B2CF9AE}" pid="3" name="_AuthorEmail">
    <vt:lpwstr>Jack.Wells@dot.gov</vt:lpwstr>
  </property>
  <property fmtid="{D5CDD505-2E9C-101B-9397-08002B2CF9AE}" pid="4" name="_AuthorEmailDisplayName">
    <vt:lpwstr>Wells, Jack &lt;OST&gt;</vt:lpwstr>
  </property>
  <property fmtid="{D5CDD505-2E9C-101B-9397-08002B2CF9AE}" pid="5" name="_EmailSubject">
    <vt:lpwstr>Powerpoint</vt:lpwstr>
  </property>
  <property fmtid="{D5CDD505-2E9C-101B-9397-08002B2CF9AE}" pid="6" name="_ReviewingToolsShownOnce">
    <vt:lpwstr/>
  </property>
</Properties>
</file>